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282-9648-412C-8ECF-F146C22F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4CA-37DE-4A79-9DED-B74FA6B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985-4BD6-45E4-A648-7543544E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448-4E2C-4E7E-9712-FCC854B3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40E-CE7B-4FE6-BBAF-B1A216BA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D82-5F6D-4AF2-8244-AA54E45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120-4355-456F-9738-324B735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55CA-BB49-4624-9EBA-6BFFD056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A59-CA92-48B4-92E1-9EF35DBF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930-8D30-4713-8FE6-265A632A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5E2-1319-47E2-B6B3-E957DDC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539-3856-4CE6-887F-04825EF6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715-F8DC-49B9-A6F9-4BD3CCA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02BF-218E-4071-BD0F-B4A4F20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CD33-6877-4891-B819-CCB4F20C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7FAE-4828-4B10-83E9-FD16546E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CD3F-5F08-4570-AED7-810CA608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42A-C158-49B7-BF61-EF7B9445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AF9-351C-428F-9986-F3D10332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4CC-C652-4440-BC67-49FA9F4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E2A-EB11-4DD4-8D38-17F37837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059-26ED-4F08-8995-CB05103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AC3-5057-4407-93A5-AA50BB5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71C-C940-449D-A0E9-E67CC82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1030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1031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1032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1033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8448-F194-4404-98B0-98078A934D7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76D-41D9-4EB1-9D9C-040A22A649F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marks are put around the beginning and the end of the exact words a person s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the door open,” Mom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sked, “Where are you going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the store,” explained M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houted, “Wait for m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 Ralp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Ralph 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Where are my new jea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ere are my new jeans?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6:13:23Z</dcterms:created>
  <dc:creator>GCSD</dc:creator>
  <dc:description/>
  <dc:language>en-US</dc:language>
  <cp:lastModifiedBy>Teacher</cp:lastModifiedBy>
  <dcterms:modified xsi:type="dcterms:W3CDTF">2012-03-25T21:31:03Z</dcterms:modified>
  <cp:revision>3</cp:revision>
  <dc:subject/>
  <dc:title>Quotation Marks</dc:title>
</cp:coreProperties>
</file>